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BF91B-9C3C-43C3-91E2-419CF5C965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E333C-3F76-445D-AD12-7305DD748E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AEFD4-1F00-47DE-A9E4-7C057335DD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DA0EE-D36E-435E-ABAE-2517E351B0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35D0B-7F9C-461B-8558-136885641D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46093-17B9-4B74-B288-4BEE9E1089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501AC-F0DF-4263-A8C9-18B13CA8B6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89827-7BDD-4AAD-92A7-B4687272A8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CCCA4-12F1-4917-B107-6B6C26CDBE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F0A9C-7716-4F02-B7E0-DD68C68D2E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C00CC-14EA-42BD-BAEE-D6EA73CA55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4E2A6-8E93-456D-9DA6-0FF002DE10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D572-444F-4ADE-A814-A762F1D01FA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22F6-DBA5-4BEF-BCC1-F310952C513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. 9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xplore, Discuss, Summariz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plore materials for your topic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asons students struggle (F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Diagnostic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(SB, F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c000"/>
                </a:solidFill>
                <a:latin typeface="Arial"/>
              </a:rPr>
              <a:t>Intervention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(SB, F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reate a summary sheet (chart paper) of key ideas / tips for secondary teac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A732-542F-4EAA-9036-489D9A942E3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haring our Insigh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Jigs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umber off in your groups (1-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allery walk – 5 minutes /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D2AD-76AF-4DEE-B6A8-6006040C0D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flection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k back to your scary fraction stor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might you help this stud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A921-E222-44F3-8D97-BFE6671A6E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flect and Predic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kinds of misconceptions do you think  secondary students might have in response to the following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EA2D-33E7-4BEE-A069-6346BD42821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Question One: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n an assignment, Jaime received the following scores: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ection A:          Section B:         Total: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Jaime was confused, because using what she knew ab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ractions, she didn’t think that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ow would you explain this to Jaime?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7B6E-594C-4542-86AB-0E85036A2A6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2133720" y="2362320"/>
                <a:ext cx="2538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5"/>
              <p:cNvSpPr txBox="1"/>
              <p:nvPr/>
            </p:nvSpPr>
            <p:spPr>
              <a:xfrm>
                <a:off x="4419720" y="2362320"/>
                <a:ext cx="2538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6"/>
              <p:cNvSpPr txBox="1"/>
              <p:nvPr/>
            </p:nvSpPr>
            <p:spPr>
              <a:xfrm>
                <a:off x="5867280" y="2362320"/>
                <a:ext cx="41940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7"/>
              <p:cNvSpPr txBox="1"/>
              <p:nvPr/>
            </p:nvSpPr>
            <p:spPr>
              <a:xfrm>
                <a:off x="4876920" y="3809880"/>
                <a:ext cx="154944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Question Two: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ow what you know about  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se different representations to communicate your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5D93-AE79-407C-96BE-B868EFF6E4D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4"/>
              <p:cNvSpPr txBox="1"/>
              <p:nvPr/>
            </p:nvSpPr>
            <p:spPr>
              <a:xfrm>
                <a:off x="5715000" y="1447920"/>
                <a:ext cx="48276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5"/>
              <p:cNvSpPr txBox="1"/>
              <p:nvPr/>
            </p:nvSpPr>
            <p:spPr>
              <a:xfrm>
                <a:off x="7327800" y="1523880"/>
                <a:ext cx="45720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Question Three: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ive a real life example of a problem where the solution could involve dividing by 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D9CB-1C95-4326-86BD-F25863233C3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Question Four: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do you know about          ?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se diagrams, numbers, algebra, words etc. to communicate your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7B1C-5795-4397-BB2E-45CC4B34619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4"/>
              <p:cNvSpPr txBox="1"/>
              <p:nvPr/>
            </p:nvSpPr>
            <p:spPr>
              <a:xfrm>
                <a:off x="5181480" y="1523880"/>
                <a:ext cx="72396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Question Fiv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one sentence that  makes sense that includes ALL of  these words and numbers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per, fraction, simple, challenging,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4198-9202-42F6-9A53-AAD081EAC24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xit Car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have you noticed / lear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are your lingering wonder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51E3-6FCE-4F0F-A055-DD9F28B2D5C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will have the opportunity to explore and discu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presentations and meanings of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nections to secondary curr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lated Gap Closing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asons students struggle with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786E-FD6C-4720-B7CB-3DBA4081B59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roup Norm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ideas will be listened to carefully and responded to respectfu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will have a vo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questions and comments will be presented with the intent to move the collective forw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ing questions are wel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will engage fully in the mo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C633-C178-468F-9A60-E26A1BA1F6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cary Stor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k of a story from your personal teaching experience involving student misconceptions about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ner/Outer Circle – share s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B076-1EA7-4474-B7D6-99C534A37E5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lope and Fraction Meaning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view the Pancake Problem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fraction meanings do you see in this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do they connect to each 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FC90-5208-447A-94AB-1A46065A8BF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Meanings and Conne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dividually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present your given fraction in as many different ways as you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reate one or two problems from gr7-12 math that feature THAT fracti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8132-6118-4B8A-B7F9-2DF633BD4D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ind two people with the same fraction as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are meanings and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ut out and post to curriculum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AF22-7762-4718-815A-B7AD5DDDBCB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6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Gap Closing - Organiza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69" name="Content Placeholder 4" descr=""/>
          <p:cNvPicPr/>
          <p:nvPr/>
        </p:nvPicPr>
        <p:blipFill>
          <a:blip r:embed="rId1"/>
          <a:stretch/>
        </p:blipFill>
        <p:spPr>
          <a:xfrm>
            <a:off x="457200" y="1341360"/>
            <a:ext cx="8248680" cy="5291280"/>
          </a:xfrm>
          <a:prstGeom prst="rect">
            <a:avLst/>
          </a:prstGeom>
          <a:ln w="0">
            <a:noFill/>
          </a:ln>
        </p:spPr>
      </p:pic>
      <p:sp>
        <p:nvSpPr>
          <p:cNvPr id="7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2204-3E63-417A-8689-10CB7C65817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Up-Down Arrow 5"/>
          <p:cNvSpPr/>
          <p:nvPr/>
        </p:nvSpPr>
        <p:spPr>
          <a:xfrm>
            <a:off x="1611360" y="3276720"/>
            <a:ext cx="380880" cy="761760"/>
          </a:xfrm>
          <a:prstGeom prst="upDownArrow">
            <a:avLst>
              <a:gd name="adj1" fmla="val 50000"/>
              <a:gd name="adj2" fmla="val 50000"/>
            </a:avLst>
          </a:prstGeom>
          <a:solidFill>
            <a:srgbClr val="7575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xploring GAP Clos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ke Gap Closing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Fractions Subtop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1) Comp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2) Adding F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3) Subtracting Fra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4) Multiplying Fra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5) Dividing F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6) Relating Situations to Fraction Oper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D46D-A786-43D6-9540-3A3BA202897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David Petro</cp:lastModifiedBy>
  <dcterms:modified xsi:type="dcterms:W3CDTF">2012-08-20T21:25:02Z</dcterms:modified>
  <cp:revision>35</cp:revision>
  <dc:subject/>
  <dc:title>&lt;Title&gt;</dc:title>
</cp:coreProperties>
</file>